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DB7-7A0C-4D2B-9DD2-F0EFCD03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D8B-4338-4466-9034-560FFE91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D70-65BA-4576-A769-9082E197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3CA-407F-4F4D-BFFA-D29F83B4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30C-69D4-4EB1-8875-CCA34C98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5E4-33F5-4CC5-9CF5-21100259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D2B-14CB-4C60-A493-677B2F8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3C4-0BB1-4BB3-9E72-4F53CA40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245-C8A1-4D19-B6C2-3A38E66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397-1EF2-46BB-9F8B-9E3566B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170-2360-4DF8-9325-A9BE0A6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1D9-FE53-464E-91AF-0AE8F61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-393840"/>
            <a:ext cx="7925040" cy="725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B88-CE4F-4B7B-8AB7-9126FF2A773A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877080" y="602136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7240" y="1268280"/>
            <a:ext cx="845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Times New Roman"/>
              </a:rPr>
              <a:t>TECNOLOGIA DA INFORM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Pesquisa FGV 200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Exercíci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92898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Porque o investimento em TI está crescendo no Brasil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Porque as exigências de hardware tendem a crescer com a evolução dos softwa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Como as empresas brasileiras fornecedoras de ERP conseguem competir com as empresas multinacionais do set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4. Que tipo de software são utilizados em computadores mais antig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5. Qual a principal finalidade da Pesquisa da FGV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2:39:55Z</dcterms:created>
  <dc:creator>Carol</dc:creator>
  <dc:description/>
  <dc:language>en-US</dc:language>
  <cp:lastModifiedBy>PNETO</cp:lastModifiedBy>
  <dcterms:modified xsi:type="dcterms:W3CDTF">2007-01-09T17:45:19Z</dcterms:modified>
  <cp:revision>177</cp:revision>
  <dc:subject/>
  <dc:title>Apresentação do PowerPoint</dc:title>
</cp:coreProperties>
</file>